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064D-2386-466F-A944-60151770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D72-B85C-4458-BA22-49835544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D2DB-915C-4EC9-B9B2-9C92A17B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F6A-4173-4BE3-B7F1-DFD0462F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5FAA-61E3-4AB4-908B-D12344C9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C248-417C-4006-A1DC-E90E6682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CD35-43A8-4E72-B2EB-3A7DFBB5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EF5C-05B9-4CCE-94E4-ED150ED0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83A4-8D31-4FDD-832F-13C1FF65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17D6-7F28-4910-978F-4785EF7C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C264-91A9-4EE5-BFFF-60C91BD8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DD92-C074-48C9-8268-7FEFF676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D098-CC35-4C92-92E0-4991AA88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CE67-525C-4D22-8AC9-22832EEB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0CBC-6077-4C83-A096-6F20EA6D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3B0F-E108-4D52-80CD-504CF729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932A-2E30-4FD7-8E6F-7B94019E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10C9-58F8-493F-B63F-D18E491C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F82-CCAB-4DA7-A29D-BE133D35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F83F-56A7-44AD-B6A2-20D99F12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A4F4-A6C6-4CE2-9FBA-F6CBB9D7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5FC-712F-40B4-A8C2-DC175D3E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CDC3-E5ED-45AB-966A-F7168A37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03F8-D505-4CCF-8558-55BB4BD9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BD16-A0E3-471E-97B7-9B626AECBBC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F127-C503-4C25-8148-F548EA8472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48B2-E036-4282-BD35-C44BE81EFC7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1AF0-D034-48BC-96C6-1090A06D749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6040" y="1338120"/>
            <a:ext cx="113252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新教材新课进度计划和分层培优讨论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01400" y="3238560"/>
            <a:ext cx="935028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刘秀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2022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5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11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3040" y="20271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高中物理新课进度计划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258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分层教学做法和讨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764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基本根据每个老师所教班级为主按成绩分成三个层次，同时全年级物理统筹安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相对较小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较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个学期根据年级组分层教学计划次数，提前预估教学进度，做好分层教学专题计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次培优根据层次不同，所教内容有所区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备课组先讨论配有内容，相应负责老师出专题，同一份资料，区分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,B,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三个层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问题：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楼层走动和纪律问题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人数较多，效果有所欠缺，不能很好的达到针对培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1T00:47:47Z</dcterms:created>
  <dc:creator>Administrator</dc:creator>
  <dc:description/>
  <dc:language>en-US</dc:language>
  <cp:lastModifiedBy>Administrator</cp:lastModifiedBy>
  <dcterms:modified xsi:type="dcterms:W3CDTF">2022-05-11T01:24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506</vt:lpwstr>
  </property>
</Properties>
</file>